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213-823C-4D74-86C0-74924CB5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F7C-BE5D-4C33-A054-F80205A4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8C0-85E6-410C-87C4-A2B732DD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DD7-8EC0-46B8-8D70-4671B3D7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0C5E-8900-4903-B2E8-1E279707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B2DF-D1A0-4602-9B34-BDD24480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6A7F-F6E2-4C24-B280-1121646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F761-32DD-438E-9E30-7017068B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848F-0537-4A9A-9755-18E36F90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0867-7D55-45A4-895A-19D2D45D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829A-FFB4-4CA0-97BB-253C424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FA9-8B9F-4D7D-AE3F-1758908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7A36-0263-407E-89E2-8475619D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BB85-FDF4-4DCC-B465-A4EEB4F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3781-95A4-4147-B16D-2AF59A85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A2F5-F221-4A0E-A81F-44448EE2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E9DC-A536-4860-8ABE-729E5D05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72C-CC1F-42CA-8044-645EBA3C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051-7467-4D64-BE37-FF0AD18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9DD-8EF7-4035-9205-529A96F8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8F5-E3DD-46B3-915D-C1CA2E35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A42-8289-4105-88A9-3880AEC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BBD-AACB-47CA-8578-BE038BD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E17-3987-45EB-BE62-751D9BB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F967-F511-4F05-ADB7-25BEEF4ED8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49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C90B-DF4F-4D56-9FDF-C0901F9C2BFC}" type="slidenum">
              <a:rPr b="0" lang="en-US" sz="14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ae38"/>
                </a:solidFill>
                <a:latin typeface="Tahoma"/>
              </a:rPr>
              <a:t>Me llamo __________          Clase 802 La fecha es el 7 de junio del 2016</a:t>
            </a:r>
            <a:endParaRPr b="0" lang="en-US" sz="36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</a:rPr>
              <a:t>Propósito # 86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Tahoma"/>
                <a:ea typeface="Tahoma"/>
              </a:rPr>
              <a:t>L.O: to review the verbs “saber” and “conocer”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In the following sentences, write the correct form CONOCER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Yo __________ Méxic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Tú __________ al nuevo alumn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Ella _________ muchos país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Nosotros ___________ a los profesor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Ustedes __________ Europa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WORKBOOK: completa p. 9.7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10" name="Picture 12" descr="bd05584_"/>
          <p:cNvPicPr/>
          <p:nvPr/>
        </p:nvPicPr>
        <p:blipFill>
          <a:blip r:embed="rId1"/>
          <a:stretch/>
        </p:blipFill>
        <p:spPr>
          <a:xfrm>
            <a:off x="7086600" y="3276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PE07015_"/>
          <p:cNvPicPr/>
          <p:nvPr/>
        </p:nvPicPr>
        <p:blipFill>
          <a:blip r:embed="rId2"/>
          <a:stretch/>
        </p:blipFill>
        <p:spPr>
          <a:xfrm>
            <a:off x="0" y="0"/>
            <a:ext cx="13003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b050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3" name="Freeform 32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4" name="Freeform 327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5" name="Text Box 353"/>
          <p:cNvSpPr/>
          <p:nvPr/>
        </p:nvSpPr>
        <p:spPr>
          <a:xfrm>
            <a:off x="-102960" y="1752480"/>
            <a:ext cx="992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 to know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factual information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nformati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é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número de teléfono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know how to do something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ctivity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abe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jugar al fútbol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16" name="Picture 4" descr="PE07015_"/>
          <p:cNvPicPr/>
          <p:nvPr/>
        </p:nvPicPr>
        <p:blipFill>
          <a:blip r:embed="rId1"/>
          <a:stretch/>
        </p:blipFill>
        <p:spPr>
          <a:xfrm>
            <a:off x="6400800" y="533520"/>
            <a:ext cx="163368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24000" y="1752480"/>
            <a:ext cx="955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to know a person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zco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al Sr. Ruiz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be familiar with a place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ce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parque 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de diverciones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1" name="Picture 4" descr="PE07015_"/>
          <p:cNvPicPr/>
          <p:nvPr/>
        </p:nvPicPr>
        <p:blipFill>
          <a:blip r:embed="rId1"/>
          <a:stretch/>
        </p:blipFill>
        <p:spPr>
          <a:xfrm>
            <a:off x="6705720" y="533520"/>
            <a:ext cx="163332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55480" y="1447920"/>
            <a:ext cx="75978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I know how to play cards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Paco knows the Fernandez family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rta knows the address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rtina knows the city very well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y friends know how to ride a bike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Luisa knows the information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4" name="Picture 7" descr="j0079190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4956480" y="1752480"/>
            <a:ext cx="21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Tahom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b050"/>
                </a:solidFill>
                <a:latin typeface="Tahoma"/>
                <a:ea typeface="Arial"/>
              </a:rPr>
              <a:t>(jugar naipes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86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WORKBOOK: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Completa p. 9.8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Helen Zumaeta</cp:lastModifiedBy>
  <dcterms:modified xsi:type="dcterms:W3CDTF">2016-06-07T16:58:23Z</dcterms:modified>
  <cp:revision>49</cp:revision>
  <dc:subject/>
  <dc:title>PowerPoint Presentation</dc:title>
</cp:coreProperties>
</file>